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14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99FB-CF2D-45DF-B3BE-D1F133F1A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800D-78BE-42B0-922C-4A47C7C70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E9AD-145A-4909-ACBC-BD520AD90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8500-3774-45BC-A3B7-13185BD90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6EDD6-698A-47E8-9B89-BAFF30C64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6F085-FF97-425D-B167-48CB2CB72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9AF38-FB3A-4ABE-A156-360A073F0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A119B-8541-4A5E-8F5F-06D71062D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4F5BC-E08D-4ED3-8D1A-27A00F731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D8C24-319A-4979-B3A6-FC3A160D2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8811F-8CE2-4E74-93EE-2B84F3DFF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D6A1-AE3B-4FF2-A400-9466D196F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22F14-227D-4999-B3D6-37C4CADA9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0A27D-D609-484B-911D-BFBB7371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D0F22-2817-4C4B-9BF9-EF0D96B24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A1E8C-C7A3-4072-9867-6D110D7C7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815E3-4724-4DB5-B39B-D296A39A0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0EA4-7E43-4A0F-B616-E45EEBE38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6ABE-98D5-481F-99B1-4A8B8C0AF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8F82-7383-41CD-BC55-A7170C380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7B8D-DB8F-4161-A922-0F4239B54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51DC-617B-4C2E-986E-1C478E949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65F0-19B8-495D-A4AC-CB6FC8D42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12ED-8A1F-4F95-99EB-8D6A277AA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9797D-0666-4060-B36E-5536B54D10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F339B-F1FB-46CD-8F21-4C1081F5E8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news.bbc.co.uk/onthisday/hi/dates/stories/november/9/newsid_2515000/2515869.stm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BayofPigs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en/d/d4/Castro_Khrushchev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17.2:  JFK &amp; the Cold War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60-196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24" name="Rectangle 7" descr=""/>
          <p:cNvPicPr/>
          <p:nvPr/>
        </p:nvPicPr>
        <p:blipFill>
          <a:blip r:embed="rId1"/>
          <a:stretch/>
        </p:blipFill>
        <p:spPr>
          <a:xfrm>
            <a:off x="0" y="484200"/>
            <a:ext cx="9144000" cy="62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Showdown__The_Cuban_Missile_Crisis.asf" descr=""/>
          <p:cNvPicPr/>
          <p:nvPr/>
        </p:nvPicPr>
        <p:blipFill>
          <a:blip r:embed="rId1"/>
          <a:stretch/>
        </p:blipFill>
        <p:spPr>
          <a:xfrm>
            <a:off x="30240" y="152280"/>
            <a:ext cx="916452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E:\BHS US History\Unit 9 Cold War and JFK\ch 15 Cold War\nuclear monster pc.jpg"/>
          <p:cNvPicPr/>
          <p:nvPr/>
        </p:nvPicPr>
        <p:blipFill>
          <a:blip r:embed="rId1"/>
          <a:stretch/>
        </p:blipFill>
        <p:spPr>
          <a:xfrm>
            <a:off x="2112840" y="0"/>
            <a:ext cx="491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.  Cold War Continues </a:t>
            </a:r>
            <a:r>
              <a:rPr b="0" lang="en-US" sz="2000" spc="-1" strike="noStrike">
                <a:solidFill>
                  <a:srgbClr val="221304"/>
                </a:solidFill>
                <a:latin typeface="Times New Roman"/>
              </a:rPr>
              <a:t>(’61)</a:t>
            </a:r>
            <a:endParaRPr b="0" lang="en-US" sz="2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Berlin Crisis (West Berl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st Berlin was thriving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% of East Berliners migra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hrushchev builds “Berlin Wall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.    August 196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i.   Ended crisis but tensions remai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ii. Symbolized communist oppr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5" descr="Berlin City Map with Berlin Wall"/>
          <p:cNvPicPr/>
          <p:nvPr/>
        </p:nvPicPr>
        <p:blipFill>
          <a:blip r:embed="rId1"/>
          <a:stretch/>
        </p:blipFill>
        <p:spPr>
          <a:xfrm>
            <a:off x="5029200" y="1752480"/>
            <a:ext cx="3809880" cy="31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Image:Berlin Wall 1961-11-20.jpg"/>
          <p:cNvPicPr/>
          <p:nvPr/>
        </p:nvPicPr>
        <p:blipFill>
          <a:blip r:embed="rId1"/>
          <a:stretch/>
        </p:blipFill>
        <p:spPr>
          <a:xfrm>
            <a:off x="1371600" y="1523880"/>
            <a:ext cx="7201080" cy="50691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Building of the “Death Strip”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Image:Berlinermauer.jpg"/>
          <p:cNvPicPr/>
          <p:nvPr/>
        </p:nvPicPr>
        <p:blipFill>
          <a:blip r:embed="rId1"/>
          <a:stretch/>
        </p:blipFill>
        <p:spPr>
          <a:xfrm>
            <a:off x="1752480" y="1447920"/>
            <a:ext cx="6248520" cy="46861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Death Strip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Berlin Wall 1990"/>
          <p:cNvPicPr/>
          <p:nvPr/>
        </p:nvPicPr>
        <p:blipFill>
          <a:blip r:embed="rId1"/>
          <a:stretch/>
        </p:blipFill>
        <p:spPr>
          <a:xfrm>
            <a:off x="1371600" y="838080"/>
            <a:ext cx="7162920" cy="49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ll Falls November 198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7" descr="The Berlin Wall is demolished"/>
          <p:cNvPicPr/>
          <p:nvPr/>
        </p:nvPicPr>
        <p:blipFill>
          <a:blip r:embed="rId1"/>
          <a:stretch/>
        </p:blipFill>
        <p:spPr>
          <a:xfrm>
            <a:off x="1371600" y="380880"/>
            <a:ext cx="716292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2.  Trying to ease tension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tline- direct telephonic line between the White House and the Kremlin (196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ed Test Ban Treaty- stopped nuclear testing in the atmosphere (196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3" descr="Photo by the Presidential Press Service"/>
          <p:cNvPicPr/>
          <p:nvPr/>
        </p:nvPicPr>
        <p:blipFill>
          <a:blip r:embed="rId1"/>
          <a:stretch/>
        </p:blipFill>
        <p:spPr>
          <a:xfrm>
            <a:off x="762120" y="685800"/>
            <a:ext cx="800100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.  “Flexible response”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aring for a variety of military responses rather than just focusing on nuclear weap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nnedy built up all branches of milit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al Forces AKA Green Ber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4" descr="Image:Yarborough &amp; J.F.Kennedy.jpg"/>
          <p:cNvPicPr/>
          <p:nvPr/>
        </p:nvPicPr>
        <p:blipFill>
          <a:blip r:embed="rId1"/>
          <a:stretch/>
        </p:blipFill>
        <p:spPr>
          <a:xfrm>
            <a:off x="5259240" y="1523880"/>
            <a:ext cx="2587680" cy="2438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Image:US Army Special Forces.Airborne patch.jpg"/>
          <p:cNvPicPr/>
          <p:nvPr/>
        </p:nvPicPr>
        <p:blipFill>
          <a:blip r:embed="rId2"/>
          <a:stretch/>
        </p:blipFill>
        <p:spPr>
          <a:xfrm>
            <a:off x="5721480" y="4114800"/>
            <a:ext cx="166356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http://news.bbc.co.uk/onthisday/hi/dates/stories/november/9/newsid_2515000/2515869.s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B.  Aid to Other Countries</a:t>
            </a:r>
            <a:br>
              <a:rPr sz="4400"/>
            </a:br>
            <a:r>
              <a:rPr b="0" lang="en-US" sz="1800" spc="-1" strike="noStrike">
                <a:solidFill>
                  <a:srgbClr val="221304"/>
                </a:solidFill>
                <a:latin typeface="Times New Roman"/>
              </a:rPr>
              <a:t>(to stop communism!)</a:t>
            </a:r>
            <a:endParaRPr b="0" lang="en-US" sz="1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66680" y="175248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iance for Progres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0 B for L.A. 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3480" indent="-483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eace Corp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unteers who helped in developing countries such as Asia, Latin America &amp; Af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3480" indent="-483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3480" indent="-483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3480" indent="-483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Marshall Islands 10"/>
          <p:cNvPicPr/>
          <p:nvPr/>
        </p:nvPicPr>
        <p:blipFill>
          <a:blip r:embed="rId1"/>
          <a:stretch/>
        </p:blipFill>
        <p:spPr>
          <a:xfrm>
            <a:off x="5029200" y="1649520"/>
            <a:ext cx="3398760" cy="23176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Image:Moz.jpg"/>
          <p:cNvPicPr/>
          <p:nvPr/>
        </p:nvPicPr>
        <p:blipFill>
          <a:blip r:embed="rId2"/>
          <a:stretch/>
        </p:blipFill>
        <p:spPr>
          <a:xfrm>
            <a:off x="5867280" y="4038480"/>
            <a:ext cx="1981440" cy="27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.  Cold War in Space:</a:t>
            </a:r>
            <a:br>
              <a:rPr sz="4400"/>
            </a:br>
            <a:r>
              <a:rPr b="0" lang="en-US" sz="2000" spc="-1" strike="noStrike">
                <a:solidFill>
                  <a:srgbClr val="221304"/>
                </a:solidFill>
                <a:latin typeface="Times New Roman"/>
              </a:rPr>
              <a:t>“The Eagle has landed”</a:t>
            </a:r>
            <a:endParaRPr b="0" lang="en-US" sz="2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066320" y="1752120"/>
            <a:ext cx="3886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have ma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‘61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atellit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‘57)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.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2: John Glenn or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9: Neil Armstrong &amp; Buzz Aldrin first to walk the mo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ucation: math and scienc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2" descr="http://i.telegraph.co.uk/multimedia/archive/01442/1969-Apollo-11-cre_1442382c.jpg"/>
          <p:cNvPicPr/>
          <p:nvPr/>
        </p:nvPicPr>
        <p:blipFill>
          <a:blip r:embed="rId1"/>
          <a:stretch/>
        </p:blipFill>
        <p:spPr>
          <a:xfrm>
            <a:off x="4967280" y="4191120"/>
            <a:ext cx="4143240" cy="2666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http://oncampus.osu.edu/wp-content/uploads/2009/05/johnglenn-4c.jpg"/>
          <p:cNvPicPr/>
          <p:nvPr/>
        </p:nvPicPr>
        <p:blipFill>
          <a:blip r:embed="rId2"/>
          <a:stretch/>
        </p:blipFill>
        <p:spPr>
          <a:xfrm>
            <a:off x="5715000" y="1665360"/>
            <a:ext cx="20113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Times New Roman"/>
              </a:rPr>
              <a:t>D.  Cuban Crises &amp; </a:t>
            </a:r>
            <a:br>
              <a:rPr sz="3600"/>
            </a:br>
            <a:r>
              <a:rPr b="0" lang="en-US" sz="3600" spc="-1" strike="noStrike">
                <a:solidFill>
                  <a:srgbClr val="221304"/>
                </a:solidFill>
                <a:latin typeface="Times New Roman"/>
              </a:rPr>
              <a:t>Fidel Castro 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0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 Cuban Dilem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-40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59- overthrew Bati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-40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ed by Cubans; promised democ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-40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get a dictatorship and commu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-40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s over American &amp; British owned oil refin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-40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 places embargo on Cuban su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-40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viets befriend h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-40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bans exiled to Mia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7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5" descr="image 1"/>
          <p:cNvPicPr/>
          <p:nvPr/>
        </p:nvPicPr>
        <p:blipFill>
          <a:blip r:embed="rId1"/>
          <a:stretch/>
        </p:blipFill>
        <p:spPr>
          <a:xfrm>
            <a:off x="5867280" y="609480"/>
            <a:ext cx="1776600" cy="2743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2" descr="http://ts3.mm.bing.net/images/thumbnail.aspx?q=1628468285602&amp;id=836d2fbc2050287e8b98f8aa004a0b3d&amp;url=http%3a%2f%2fpoliticalkudzu.com%2fwp-content%2fuploads%2f2008%2f02%2ffidel_raul_castro.jpg"/>
          <p:cNvPicPr/>
          <p:nvPr/>
        </p:nvPicPr>
        <p:blipFill>
          <a:blip r:embed="rId2"/>
          <a:stretch/>
        </p:blipFill>
        <p:spPr>
          <a:xfrm>
            <a:off x="4800600" y="3429000"/>
            <a:ext cx="40291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Times New Roman"/>
              </a:rPr>
              <a:t>2.  Bay of Pigs April 1961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4038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 to train Cuban exiles: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 Brig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to overthrow Cas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ccess or fail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 failed miserabl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relations success for Cas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.  JFK considered incompe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i. $53 million in food and medical supplies for release of soldi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BayofPig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29200" y="2895480"/>
            <a:ext cx="4114800" cy="15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Times New Roman"/>
              </a:rPr>
              <a:t>4.  Cuban Missile Crisis 1962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3276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clear missiles in Cu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k from Cuba = attack on Soviet Un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 quarantines Cuba = SU ships do not pa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hrushchev &amp; Kennedy make agreem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tro &amp; Khrushche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6" descr="File:Castro Khrushchev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00600" y="1676520"/>
            <a:ext cx="396252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missile cuba"/>
          <p:cNvPicPr/>
          <p:nvPr/>
        </p:nvPicPr>
        <p:blipFill>
          <a:blip r:embed="rId1"/>
          <a:stretch/>
        </p:blipFill>
        <p:spPr>
          <a:xfrm>
            <a:off x="685800" y="555480"/>
            <a:ext cx="817884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22" name="Rectangle 7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UPER</dc:creator>
  <dc:description/>
  <dc:language>en-US</dc:language>
  <cp:lastModifiedBy>School District U46</cp:lastModifiedBy>
  <dcterms:modified xsi:type="dcterms:W3CDTF">2012-03-07T17:57:24Z</dcterms:modified>
  <cp:revision>25</cp:revision>
  <dc:subject/>
  <dc:title>PowerPoint Presentation</dc:title>
</cp:coreProperties>
</file>